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carbrake.wav" ContentType="audio/x-wav"/>
  <Override PartName="/ppt/media/image8.wmf" ContentType="image/x-wmf"/>
  <Override PartName="/ppt/media/image14.wmf" ContentType="image/x-wmf"/>
  <Override PartName="/ppt/media/laser.wav" ContentType="audio/x-wav"/>
  <Override PartName="/ppt/media/image13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697-6EEB-4254-9887-772157D4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957-D9F2-4FE3-ABBB-7A6ECCD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245-4954-44D2-874C-0FE519BE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A0F-6DD0-4312-A747-7309DB60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FD5-3F04-4D08-ACAC-9C9F458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A09-D483-47B1-9464-178CDBC8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01D-7108-4F47-9D09-E148C2C6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A2A-6081-439F-AB2D-88F0FA3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622-A62A-4A24-9C78-F380B09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C0F-6F31-4589-80BC-944BF90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4A6-D322-4572-BCCC-68C7BEB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67B-F7E5-476F-8E49-1389DB0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243-B9A5-4486-AD11-991FBD2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A286-8E28-495E-8517-D4B76B7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54A-2EB6-4108-BF69-648CEC19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0996-8441-427A-9EF3-D9C5148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3A1A-5A26-4B45-A068-21DFE4D1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CC2-2D15-4A8C-B947-FF4D8113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D48-36E6-4BA4-AE13-7C32C022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13E-EC68-41E6-BDA0-43C8B6E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77A-45AA-493E-9D84-003143AA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F06-E1A2-48CF-9304-356655B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3D9-5316-4835-8223-DC76591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9AD-BAE1-47F7-96E4-EFD5F19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C1C-20D1-49AB-BB64-AEFB98E6EDE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E3C-3C52-4F2D-98A2-1524E7AA31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8"/>
          <p:cNvSpPr txBox="1"/>
          <p:nvPr/>
        </p:nvSpPr>
        <p:spPr>
          <a:xfrm>
            <a:off x="2362320" y="2819520"/>
            <a:ext cx="4848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AT DO YOU WANT TO BE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714320" cy="171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905120" cy="184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1828800" cy="175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492200" cy="148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5"/>
          <a:stretch/>
        </p:blipFill>
        <p:spPr>
          <a:xfrm>
            <a:off x="3733920" y="3429000"/>
            <a:ext cx="1768320" cy="186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a3d7a"/>
                </a:solidFill>
                <a:latin typeface="Comic Sans MS"/>
              </a:rPr>
              <a:t>SO… YOU DEC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a3d7a"/>
                </a:solidFill>
                <a:latin typeface="Pristina"/>
              </a:rPr>
              <a:t>JOB SEEKING STRATEG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tions and Consider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 rot="5400000">
            <a:off x="289800" y="40528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EMPLOYMENT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438280" y="3733920"/>
            <a:ext cx="1524240" cy="60948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0e08"/>
          </a:solidFill>
          <a:ln w="9360">
            <a:solidFill>
              <a:srgbClr val="fe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4267080" y="2819520"/>
            <a:ext cx="3505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VERNMEN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4343400" y="3581280"/>
            <a:ext cx="3429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VAT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4267080" y="43434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USTRY AND COMMERC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191120" y="5257800"/>
            <a:ext cx="3581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LF-EMPLOY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IZE OF THE COMPA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905120" y="2590920"/>
            <a:ext cx="1133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MA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905120" y="3505320"/>
            <a:ext cx="19047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DI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1676520" y="4267080"/>
            <a:ext cx="2666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ATION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4343400" y="3276720"/>
            <a:ext cx="4295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ULTIN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mportant factors to be considere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Location (local, state, nationa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alary (Short term, long term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Career progression opport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Full time, part-time, tempor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WORK VAL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CHALLENGING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ECURITY OF TENUR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NDEPEND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HIGHLY STRUCTU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PORTUNITIES FOR CREA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PRESTI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TASK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xamine your working options and list them according 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ect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Career progression opportunit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Mode of 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Work valu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b5249"/>
                </a:solidFill>
                <a:latin typeface="Times New Roman"/>
              </a:rPr>
              <a:t>THANK YOU AND GOOD LUC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4495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9:55Z</dcterms:created>
  <dc:creator>BUCKrie</dc:creator>
  <dc:description/>
  <dc:language>en-US</dc:language>
  <cp:lastModifiedBy>M_00</cp:lastModifiedBy>
  <dcterms:modified xsi:type="dcterms:W3CDTF">2009-02-12T02:26:45Z</dcterms:modified>
  <cp:revision>2</cp:revision>
  <dc:subject/>
  <dc:title>PowerPoint Presentation</dc:title>
</cp:coreProperties>
</file>